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AFB-FAE9-4263-B938-8AB1FDDC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BB7-9B8F-44BB-9B7F-F1021A27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80E-8AF3-4A74-9E07-0B4874C8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E8C-3FE2-4EE9-B368-EDCCCE2D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C284-E6A3-4C75-9C01-F365F9D2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8BDC-0ED7-49C2-AEC5-AF114ECE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DEC3-E94C-4A7B-9E51-E01FC14A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FEBF-DC80-465C-8652-F414EFAB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01DF-81C5-4921-825A-FBCA4E82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049D-033A-40D2-951C-B413C315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85C3-6269-4019-9A7A-E025D4AB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9FC-71B4-407D-955A-601D0325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3752-1DE8-4148-B7BA-767FFF44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3150-C3CB-45F4-BD1A-C93581A2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2607-7329-40D6-8876-49C53F68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C091-BD44-4F1E-8ACE-53952146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7256-9EC3-4908-A051-B76C679D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146-A682-4D86-9979-EC6892B0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8BC-8DE1-4AFB-AB09-6E2C97B6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583-2BEB-4661-B4B2-B4951280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B6D-5BD5-4159-9C69-50032B95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A27C-08E7-421D-932E-189B5E97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E51-CC54-44CB-8CED-EDEEFAD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4DB-0451-4650-ABC0-508EDFFB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85F3-F09D-4A3F-8738-B9C16A474C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C47C-FDA6-4647-9A67-11FB289722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(The Divided Kingdom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rter 6, Lesson 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g.86-8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Chron.25; 2 Kings 13:20 – 14:2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15400" cy="5740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09680" y="228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re We Are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838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6019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048120"/>
            <a:ext cx="30456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867280" y="685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aces to Re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2895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d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y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udah and Isra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66"/>
                </a:solidFill>
                <a:uFillTx/>
                <a:latin typeface="Tahoma"/>
              </a:rPr>
              <a:t>Amazi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s an expedition agaist Edom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2 Chron.25: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00,000 chosen men for w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res additional 100,000 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missed after a man of God warn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wreak havoc in Juda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dead man comes to life (2 Kgs.13:20-2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66"/>
                </a:solidFill>
                <a:uFillTx/>
                <a:latin typeface="Tahoma"/>
              </a:rPr>
              <a:t>Joa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eats the Syrians three times (23-2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vers Israelite towns taken by Hazael &amp; Be-ha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udah and Isra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66"/>
                </a:solidFill>
                <a:uFillTx/>
                <a:latin typeface="Tahoma"/>
              </a:rPr>
              <a:t>Amazi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efeating the Edomite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adopts the Edomite god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2 Chron.25:14-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asks W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rned of wrath to co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66"/>
                </a:solidFill>
                <a:uFillTx/>
                <a:latin typeface="Tahoma"/>
              </a:rPr>
              <a:t>Joa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r Between Amaziah &amp; Joa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ar Between Amaziah and Joas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Kgs.14:8-14; 2 Chron.25:17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ash defeated Amaziah &amp; Jud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much silver &amp; gold from Jerusa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re down a section of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aziah is captured &amp; forced to pay heavy tribute to 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rrors of Amazia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aganism – 2 Chron.25:14-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ride – 17-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ing in his punishment – 21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roboam (II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1 evil years to reign over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20:34:14Z</dcterms:created>
  <dc:creator> Tab Vines</dc:creator>
  <dc:description/>
  <dc:language>en-US</dc:language>
  <cp:lastModifiedBy> Tab Vines</cp:lastModifiedBy>
  <dcterms:modified xsi:type="dcterms:W3CDTF">2005-09-16T21:20:01Z</dcterms:modified>
  <cp:revision>4</cp:revision>
  <dc:subject/>
  <dc:title>Till There Was No Remedy (The Divided Kingdom)</dc:title>
</cp:coreProperties>
</file>